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FAA-2176-44B1-91FF-8A1F221D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09A-F5A2-43D5-B41B-12799799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8F1-5DEE-4560-8036-2B38D3D0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7FC7-ACF8-44A1-9D5E-DA1965DB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A23-5E7E-4C00-97D8-471DE27A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9D2-79D4-42A7-9F09-69949D3C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8F47-761E-457C-9B87-8D8A9F95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D03-C43E-4E7E-9FA0-3672DEC7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DB2-58D5-4856-AC32-0B2CFDAA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D93-4D4C-4C49-BE6A-149805EE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A9E-333C-4C46-9D9E-BDF88B4D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021-8810-47D0-9671-96F745DC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742AE-7C6E-4023-8414-67A94EE2A6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E5B74-7D4B-47CA-B1A7-4ED5C725B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will city A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will city B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will city C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will city D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will city E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will city F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temperatures will city C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temperatures will city C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temperatures will city C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temperatures will city C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could you get after a occluded fro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could you get after a stationary fro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7960" y="228600"/>
            <a:ext cx="177804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683160" y="228600"/>
            <a:ext cx="177768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177804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60240" y="1962000"/>
            <a:ext cx="1778040" cy="1428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848040" y="1974960"/>
            <a:ext cx="1778040" cy="1428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629400" y="1962000"/>
            <a:ext cx="177804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60240" y="3708360"/>
            <a:ext cx="17780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3848040" y="3708360"/>
            <a:ext cx="177804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7061040" y="3708360"/>
            <a:ext cx="177804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812880" y="5429160"/>
            <a:ext cx="1778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ront does the symbol below represe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ront does the symbol below represe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ront does the symbol below represe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ront does the symbol below represe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ront does the symbol below represe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ront does the symbol below represe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emperatures increase or decrease after a cold fro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emperatures increase or decrease after a warm fro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emperatures increase or decrease after a stationary fro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emperatures increase or decrease after a occluded fro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could you get after a cold fro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kind of precipitation could you get after a warm fron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0:48:00Z</dcterms:created>
  <dc:creator>Caroline Roth</dc:creator>
  <dc:description/>
  <dc:language>en-US</dc:language>
  <cp:lastModifiedBy>Caroline Roth</cp:lastModifiedBy>
  <cp:lastPrinted>2011-01-27T04:14:08Z</cp:lastPrinted>
  <dcterms:modified xsi:type="dcterms:W3CDTF">2011-04-27T01:00:45Z</dcterms:modified>
  <cp:revision>7</cp:revision>
  <dc:subject/>
  <dc:title>Slide 1</dc:title>
</cp:coreProperties>
</file>